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00F-9A23-449B-ABF7-760048D6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360-41D2-49D2-BE2F-91C6825B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DFE-59BA-4083-B955-3AF9D4C1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CD7-21AE-4757-82EB-A6C7CEA4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131-61D5-4DFF-AB0D-87490FE5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E81-77D9-4228-82D7-95169D66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B02-460C-4234-8C1C-B9D36F81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E69-E00B-4F49-92E0-B0BC0F09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B9B-B15D-4C0E-B336-FE559D21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E74-96D3-4821-9813-0F99E7B3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425-7473-421A-B7D2-6BC323CE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9DF-2FFD-4BD7-919C-05F358BC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1262-228E-42AC-87B2-0A479DDE2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elle Kell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16276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5851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52131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the Athens and the Spar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117880" y="2587680"/>
            <a:ext cx="42066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46008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the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436840" y="2971800"/>
            <a:ext cx="39924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62120" y="1976400"/>
            <a:ext cx="720396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0" y="6858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2362320" y="9907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where Greeks meet and conduct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447920" y="2371680"/>
            <a:ext cx="5981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 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119320" y="2743200"/>
            <a:ext cx="39765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438280" y="2620800"/>
            <a:ext cx="4181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653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4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743280" y="2590920"/>
            <a:ext cx="540072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422928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41241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00:41Z</dcterms:modified>
  <cp:revision>95</cp:revision>
  <dc:subject/>
  <dc:title>Ancient Greece</dc:title>
</cp:coreProperties>
</file>